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135987"/>
        <c:axId val="9546935"/>
      </c:barChart>
      <c:catAx>
        <c:axId val="321359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6935"/>
        <c:crosses val="autoZero"/>
        <c:auto val="1"/>
        <c:lblAlgn val="ctr"/>
        <c:lblOffset val="100"/>
        <c:noMultiLvlLbl val="0"/>
      </c:catAx>
      <c:valAx>
        <c:axId val="9546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359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600-52C7-4DBB-8631-5814805F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5E6-35BE-483F-851B-4AD60AA5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67A1-2C2A-4B4D-A5CB-8739E5DA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BD2-271D-406A-A805-FC31DDB2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EB9-DD87-4AD6-99E1-D364BEC2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B32-54A4-4065-87AD-8BC2B57F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2C4-E0DE-429F-AFCE-8AB73FFC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AAE3-50AC-4F2D-9331-A412BABB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5BF-D8F9-4F22-B89D-848AF59C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513-6101-4D1C-B6C7-ECE4E47E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EA3F-F3AB-4547-81DF-0A63CE9F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CEA5-D803-48C7-842E-F85AE880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41B85-740A-43A9-9256-06CDB96B36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