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729377"/>
        <c:axId val="27293433"/>
      </c:barChart>
      <c:catAx>
        <c:axId val="667293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293433"/>
        <c:crosses val="autoZero"/>
        <c:auto val="1"/>
        <c:lblAlgn val="ctr"/>
        <c:lblOffset val="100"/>
        <c:noMultiLvlLbl val="0"/>
      </c:catAx>
      <c:valAx>
        <c:axId val="272934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293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91E1-735E-4476-BA10-B62D76837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5B4A-54E2-4688-A1C4-ED8E1F0B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8A3C-594B-43D3-AF1D-CCC79B50B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B61B-BB66-42A7-AA3A-8E50061BA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A406-53D2-4515-B141-15577CA6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8D00-6888-480C-843C-72933BEE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6410-848F-4134-B0FA-51F6D96D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068A-864D-43C9-91FF-39588124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EE02-6C29-4D63-9021-26A194C0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4486-7A6C-4D8D-875D-D6B764F3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AA23-80AC-42EB-BC02-79935BCC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66F8-99F8-44B7-AE82-156764F2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0C2631-7ADF-4631-A6EE-B04E40F9F8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