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58951"/>
        <c:axId val="99676653"/>
      </c:barChart>
      <c:catAx>
        <c:axId val="54958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76653"/>
        <c:crosses val="autoZero"/>
        <c:auto val="1"/>
        <c:lblAlgn val="ctr"/>
        <c:lblOffset val="100"/>
        <c:noMultiLvlLbl val="0"/>
      </c:catAx>
      <c:valAx>
        <c:axId val="99676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8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715-A1CB-4FE8-B32B-4000FF7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BF9-0903-4C81-BA6B-AF5F92F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F12-D69A-41CA-A6DD-AE2BB6A1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47B-FA00-4495-9669-4A7B29FD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877-7128-4EA9-8AA7-A8795A07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81A-B9FD-4E50-9E98-A52BB857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1DD-8D9F-4895-A019-F908ED8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7A8-C1CD-4283-8CC0-EF48B2B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A34-AE03-4108-ABA5-AFBD7BFB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68A-AB25-4DA8-BF27-39682D0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6CF-E405-44FC-992C-357307C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19A-CA83-45BE-A06B-1A81A00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7ED13-9D72-4105-8F6E-8C6120CC8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