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37725"/>
        <c:axId val="15373108"/>
      </c:barChart>
      <c:catAx>
        <c:axId val="92437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73108"/>
        <c:crosses val="autoZero"/>
        <c:auto val="1"/>
        <c:lblAlgn val="ctr"/>
        <c:lblOffset val="100"/>
        <c:noMultiLvlLbl val="0"/>
      </c:catAx>
      <c:valAx>
        <c:axId val="15373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37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C38-3CC1-4619-AB7D-B3CF296E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CC2-F4C5-4C0B-B8EE-E165CA64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D7B-12C8-40EF-9AAF-1E1FEA47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440-EA62-423C-8B55-8FA8D4A1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8A8-95A9-4D8B-800A-F2A3A106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E13-F15D-4B94-B85D-97B766C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1B7-D7C3-43CC-B839-93B6B4E5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958-02A5-4829-9A11-D92B2A4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13C-ADCA-4EC4-A934-1F179565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673-D9A0-4C69-86EA-6740F4C2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EB4-F38C-4511-A955-BD924060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571-FA0F-4142-8B3F-F0A210D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79AF1-C754-4D82-A235-97030F6E36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